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AC3F2-4560-40DD-9757-6102DB53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6FECB-9873-4409-9549-672F2687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F7863-AF99-4631-AD4A-688D5086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48E19-B099-46CF-AC48-B534914F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93BC-A2AC-4202-AAF5-9436B6E7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E996-31FD-4380-B5ED-C9812F7C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5D3A-0BFB-44A8-85A0-C103054A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89BE-C6F7-4F7A-BA70-08E39EBD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747E-5CC5-4211-A80A-A638CB86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A24C-A2DD-4786-9367-24CB9720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6F9A-ECBE-4180-B797-1115713D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17F4-2655-40BC-8DE2-DDF81443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2140-78F2-43D1-B4C1-9E501C22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32AE-C1B0-43C9-8367-070DCB41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EC0C-EF77-4826-9B5C-6EC16EDF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BB03-D0CC-4B47-9825-DB0C464D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E080-2F54-4D55-83AE-7C67E300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B03EE-039D-4460-AD3A-23C75159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96A96-A882-47A3-8BCF-FDC38239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FAB90-483D-48CF-A446-198F0999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99FC-C2CC-48AB-968C-446077AB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D7DD3-A707-437F-8F31-368E2C9A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BBE81-010B-4F44-8177-F658430A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DA01-D068-426C-8794-B044125E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BFD8-0D60-4DB4-ADD7-5DB520F261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B3BC-71FB-4E61-A722-F13ACDA39E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0720" y="2491920"/>
            <a:ext cx="7937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«Подготовка к итоговой контрольной работе по экономике»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19640" y="5013360"/>
            <a:ext cx="518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5  класс</a:t>
            </a:r>
            <a:endParaRPr b="1" lang="en-US" sz="4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920" y="404640"/>
            <a:ext cx="7561440" cy="121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Урок по теме: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2087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Термину слева подбери</a:t>
            </a:r>
            <a:br>
              <a:rPr sz="2800"/>
            </a:b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 его значение справ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9280" y="1484280"/>
            <a:ext cx="367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1. Деньг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2. Натураль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3. Потребл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4. Торговл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5. Товар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6. Правитель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7. Маркетин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8. Коммерческая организа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634920" y="1557000"/>
            <a:ext cx="5210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А) вид деятельности, позволяющий встретится продавцу и покупателю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Б) хозяйство, в котором производят товар не для личного потребления, а для обме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В) то, что признается людьми и выполняет их функции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Г) использование потребительских свойств товаров себе во благ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Д) хозяйство, в котором человек производит сам все необходимое для жизн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Е) исполнительная власть государств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Ж) организация, которая приносит прибыл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З) обмен товара на деньг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44400" y="1600200"/>
            <a:ext cx="170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8. 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2. Реши задачи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продажу 7 изготовленных ею ковровых дорожек жена Ивана- Царевича Василиса Премудрая получила 1771 ван. Жены же братьев Ивана-Царевича изготовили 6 таких же по качеству ковровых дорожек и выручили за них 1614 ванов. Чьи дорожки покупать выгодне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1771 : 7 = 253 ( ван) – цена Васили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) 1614 : 6 = 269 ( ван) – цена жён брать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) 269 – 253 = 16 ( в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ОТВЕТ 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ыгоднее покупать ковровые дорожки у Василисы, так как они дешеле на 16 ван, чем у жён братье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ffff"/>
                </a:solidFill>
                <a:uFillTx/>
                <a:latin typeface="Monotype Corsiva"/>
              </a:rPr>
              <a:t>Закончите фразу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900760" y="2852640"/>
            <a:ext cx="3243240" cy="3783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400120" cy="3600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 rot="19905600">
            <a:off x="528120" y="3162240"/>
            <a:ext cx="808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Сегодня на уроке я вспомнил 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Georgia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 Повторить материал со ст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 Реши задачу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заготовительной конторе у Лешего работали 13 рабочих. Ежемесячно он выделял 2/ 9 части общего дохода, равного 1 404 берестеня, на заработную плату рабочих. В результате неурожая грибов объем заготовок резко снизился, и доход упал на 540 берестеней. Сколько рабочих должен уволить Леший, чтобы оставшиеся работники получали прежнюю зарплату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240000" cy="3057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187280" y="112536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Желаю удачи!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Georgia"/>
              </a:rPr>
              <a:t>Теоретическая ча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. Природные ресурсы. Охрана приро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.Человек и общество (Собственность, государство, организация, домашне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. Виды хозяйств (Натуральное и товарно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. Рождение денег. Торговл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. Рыночный механизм (спрос, предложение, рыночная цена, маркетинг, реклам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6. Виды хозяйственной деятель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 Природные ресурсы. Охрана природы.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360" y="1628280"/>
            <a:ext cx="5353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Что такое природные ресурсы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Приведите примеры природных ресур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Как охраняют окружающую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Зачем необходимо охранять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635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2.Человек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и общество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03280" y="1341360"/>
            <a:ext cx="5559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Что такое собственнос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акие виды собственности вы знаете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 какому виду собственности можно отнести валенки, АО«Кровля»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Что такое государство, организация, домашнее хозяйство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00720" y="4221000"/>
            <a:ext cx="2592360" cy="2436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2879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3. Виды хозяйств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Чем отличается  натуральное хозяйство от 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иведите примеры натурального и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а каком рисунке  вы видите пример натурального хозяйства и товарного хозяйства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03640" y="3567240"/>
            <a:ext cx="3816360" cy="2806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916360" y="638172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3149640" cy="343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6372360" y="652464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4. Рождение денег. Торговл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11280" y="1267920"/>
            <a:ext cx="6732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деньги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функции выполняют деньг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виды денег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бартер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торговля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пределите на каком рисунке представлена формула бартера,  а на каком формула торговл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093760" cy="230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11280" y="501336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Д - Т"</a:t>
            </a:r>
            <a:endParaRPr b="1" lang="en-US" sz="18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24360" y="5084640"/>
            <a:ext cx="230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Т"</a:t>
            </a:r>
            <a:endParaRPr b="1" lang="en-US" sz="44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7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5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eorgia"/>
              </a:rPr>
              <a:t>5. Рыночный механиз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йдите ошибки в схе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15640" y="3965760"/>
            <a:ext cx="6548760" cy="1359000"/>
            <a:chOff x="1115640" y="3965760"/>
            <a:chExt cx="6548760" cy="1359000"/>
          </a:xfrm>
        </p:grpSpPr>
        <p:sp>
          <p:nvSpPr>
            <p:cNvPr id="129" name="_s12301"/>
            <p:cNvSpPr/>
            <p:nvPr/>
          </p:nvSpPr>
          <p:spPr>
            <a:xfrm>
              <a:off x="2123640" y="4643280"/>
              <a:ext cx="12240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2300"/>
            <p:cNvSpPr/>
            <p:nvPr/>
          </p:nvSpPr>
          <p:spPr>
            <a:xfrm>
              <a:off x="111564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Спрос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12299"/>
            <p:cNvSpPr/>
            <p:nvPr/>
          </p:nvSpPr>
          <p:spPr>
            <a:xfrm flipV="1">
              <a:off x="5076720" y="4652640"/>
              <a:ext cx="158472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2298"/>
            <p:cNvSpPr/>
            <p:nvPr/>
          </p:nvSpPr>
          <p:spPr>
            <a:xfrm>
              <a:off x="658872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Цен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2295"/>
            <p:cNvSpPr/>
            <p:nvPr/>
          </p:nvSpPr>
          <p:spPr>
            <a:xfrm>
              <a:off x="3419280" y="3965760"/>
              <a:ext cx="1617120" cy="1359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aramond"/>
                </a:rPr>
                <a:t>Предложени</a:t>
              </a:r>
              <a:r>
                <a:rPr b="0" lang="en-US" sz="1000" spc="-1" strike="noStrike">
                  <a:solidFill>
                    <a:srgbClr val="ffffff"/>
                  </a:solidFill>
                  <a:latin typeface="Garamond"/>
                </a:rPr>
                <a:t>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5148360" y="4076640"/>
            <a:ext cx="1239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ркетиг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124000" y="3933720"/>
            <a:ext cx="1452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5e5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клама</a:t>
            </a:r>
            <a:endParaRPr b="1" lang="en-US" sz="1800" spc="1" strike="noStrike">
              <a:ln w="0">
                <a:noFill/>
              </a:ln>
              <a:solidFill>
                <a:srgbClr val="e5e5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Georgia"/>
              </a:rPr>
              <a:t>6. Виды хозяйственной деятельности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92720" y="1196640"/>
            <a:ext cx="3851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Какие виды хозяйственной деятельности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Что такое производство, обмен, потреблени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 Есть ли ошибки в схеме? (Если есть, то каки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9080" y="1562760"/>
            <a:ext cx="4640040" cy="3840480"/>
            <a:chOff x="109080" y="1562760"/>
            <a:chExt cx="4640040" cy="3840480"/>
          </a:xfrm>
        </p:grpSpPr>
        <p:sp>
          <p:nvSpPr>
            <p:cNvPr id="139" name="_s13323"/>
            <p:cNvSpPr/>
            <p:nvPr/>
          </p:nvSpPr>
          <p:spPr>
            <a:xfrm>
              <a:off x="1186920" y="1562760"/>
              <a:ext cx="2232000" cy="2610000"/>
            </a:xfrm>
            <a:custGeom>
              <a:avLst/>
              <a:gdLst>
                <a:gd name="textAreaLeft" fmla="*/ 0 w 2232000"/>
                <a:gd name="textAreaRight" fmla="*/ 2232360 w 2232000"/>
                <a:gd name="textAreaTop" fmla="*/ 0 h 2610000"/>
                <a:gd name="textAreaBottom" fmla="*/ 2610360 h 261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651661"/>
                  <a:lnTo>
                    <a:pt x="2423" y="3983"/>
                  </a:lnTo>
                  <a:arcTo wR="10800" hR="10800" stAng="-8451661" swAng="3651661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13324"/>
            <p:cNvSpPr/>
            <p:nvPr/>
          </p:nvSpPr>
          <p:spPr>
            <a:xfrm rot="7200000">
              <a:off x="1886040" y="2552760"/>
              <a:ext cx="2732040" cy="1879920"/>
            </a:xfrm>
            <a:custGeom>
              <a:avLst/>
              <a:gdLst>
                <a:gd name="textAreaLeft" fmla="*/ 0 w 2732040"/>
                <a:gd name="textAreaRight" fmla="*/ 2732040 w 2732040"/>
                <a:gd name="textAreaTop" fmla="*/ 0 h 1879920"/>
                <a:gd name="textAreaBottom" fmla="*/ 1880280 h 187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86" y="14531"/>
                  </a:moveTo>
                  <a:arcTo wR="-3732" hR="-3732" stAng="5320794" swAng="-2320794"/>
                  <a:lnTo>
                    <a:pt x="3858" y="2527"/>
                  </a:lnTo>
                  <a:arcTo wR="10800" hR="10800" stAng="-7800000" swAng="2320794"/>
                  <a:lnTo>
                    <a:pt x="10489" y="-2696"/>
                  </a:lnTo>
                  <a:lnTo>
                    <a:pt x="16865" y="3392"/>
                  </a:lnTo>
                  <a:lnTo>
                    <a:pt x="10776" y="9768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13326"/>
            <p:cNvSpPr/>
            <p:nvPr/>
          </p:nvSpPr>
          <p:spPr>
            <a:xfrm rot="14400000">
              <a:off x="123840" y="2853720"/>
              <a:ext cx="2733480" cy="1612800"/>
            </a:xfrm>
            <a:custGeom>
              <a:avLst/>
              <a:gdLst>
                <a:gd name="textAreaLeft" fmla="*/ 0 w 2733480"/>
                <a:gd name="textAreaRight" fmla="*/ 2733840 w 2733480"/>
                <a:gd name="textAreaTop" fmla="*/ 0 h 1612800"/>
                <a:gd name="textAreaBottom" fmla="*/ 1613160 h 161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15" y="14525"/>
                  </a:moveTo>
                  <a:arcTo wR="-4048" hR="-4048" stAng="6782995" swAng="-3782995"/>
                  <a:lnTo>
                    <a:pt x="3858" y="2527"/>
                  </a:lnTo>
                  <a:arcTo wR="10800" hR="10800" stAng="-7800000" swAng="3782995"/>
                  <a:lnTo>
                    <a:pt x="16086" y="-1622"/>
                  </a:lnTo>
                  <a:lnTo>
                    <a:pt x="19298" y="6348"/>
                  </a:lnTo>
                  <a:lnTo>
                    <a:pt x="11328" y="956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3322"/>
            <p:cNvSpPr/>
            <p:nvPr/>
          </p:nvSpPr>
          <p:spPr>
            <a:xfrm>
              <a:off x="1332000" y="4307760"/>
              <a:ext cx="223200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отребл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13325"/>
            <p:cNvSpPr/>
            <p:nvPr/>
          </p:nvSpPr>
          <p:spPr>
            <a:xfrm>
              <a:off x="324000" y="1990080"/>
              <a:ext cx="128844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обме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13321"/>
            <p:cNvSpPr/>
            <p:nvPr/>
          </p:nvSpPr>
          <p:spPr>
            <a:xfrm>
              <a:off x="3203640" y="1868040"/>
              <a:ext cx="1375560" cy="14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роизвод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55640" y="1773360"/>
            <a:ext cx="7920000" cy="20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рактическая часть</a:t>
            </a:r>
            <a:endParaRPr b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6:30:50Z</dcterms:created>
  <dc:creator>User</dc:creator>
  <dc:description/>
  <dc:language>en-US</dc:language>
  <cp:lastModifiedBy>User</cp:lastModifiedBy>
  <dcterms:modified xsi:type="dcterms:W3CDTF">2008-01-27T10:10:38Z</dcterms:modified>
  <cp:revision>3</cp:revision>
  <dc:subject/>
  <dc:title>«Подготовка к итоговой контрольной работе по экономике» </dc:title>
</cp:coreProperties>
</file>